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3921-A90B-40B2-A740-D084DBC968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901E-7DF5-4C31-B05C-2F953CA22E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E0A-6318-4211-8478-200EB07B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D15-CD59-4878-BFE1-3C516DEE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5DC-1DE1-4AB1-BB1C-2FF09B51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453-4A09-4FDD-A6CB-CF492C46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DA1-2B27-437A-B00F-95EE0C7F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D41-C7C1-44F8-8E60-8A5532A1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883-3BB2-4909-AC7F-188BCDE2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1FA-B869-412A-96D7-0D61EB8E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F71-81ED-4A48-9051-6608521D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D89-A7A4-4106-B268-4404131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371-175F-44EE-8D7A-808C3FE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527-35A0-4EB0-AF8D-D84DEAC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10D9-92A4-4CD5-A71E-31FBCF423CA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188640"/>
            <a:ext cx="8643960" cy="6383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300" spc="-1" strike="noStrike">
                <a:solidFill>
                  <a:srgbClr val="c00000"/>
                </a:solidFill>
                <a:latin typeface="Verdana"/>
              </a:rPr>
              <a:t>Брейн – ринг  </a:t>
            </a:r>
            <a:br>
              <a:rPr sz="8300"/>
            </a:br>
            <a:r>
              <a:rPr b="0" lang="ru-RU" sz="8300" spc="-1" strike="noStrike">
                <a:solidFill>
                  <a:srgbClr val="c00000"/>
                </a:solidFill>
                <a:latin typeface="Verdana"/>
              </a:rPr>
              <a:t>по математике </a:t>
            </a:r>
            <a:br>
              <a:rPr sz="8300"/>
            </a:br>
            <a:r>
              <a:rPr b="0" lang="ru-RU" sz="8300" spc="-1" strike="noStrike">
                <a:solidFill>
                  <a:srgbClr val="c00000"/>
                </a:solidFill>
                <a:latin typeface="Verdana"/>
              </a:rPr>
              <a:t>«К экзамену готовы!»</a:t>
            </a:r>
            <a:br>
              <a:rPr sz="8300"/>
            </a:br>
            <a:r>
              <a:rPr b="0" lang="ru-RU" sz="8300" spc="-1" strike="noStrike">
                <a:solidFill>
                  <a:srgbClr val="c00000"/>
                </a:solidFill>
                <a:latin typeface="Verdana"/>
              </a:rPr>
              <a:t>9 – 11 классы</a:t>
            </a:r>
            <a:endParaRPr b="0" lang="en-US" sz="8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2276640"/>
            <a:ext cx="8358120" cy="4248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Одна из точек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N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отмеченных на координатной прямой, соответствует числу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ая это точк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1 . М    2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3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 K      4.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194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Object 9"/>
              <p:cNvSpPr txBox="1"/>
              <p:nvPr/>
            </p:nvSpPr>
            <p:spPr>
              <a:xfrm>
                <a:off x="1116000" y="4437000"/>
                <a:ext cx="934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01040" cy="5897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Известно, что </a:t>
            </a:r>
            <a:r>
              <a:rPr b="0" i="1" lang="en-US" sz="5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число нечетное. Какое из чисел является четным? 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3a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3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) 2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+ 1     4)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a - 1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8  2)-8   3)     4)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273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" name="Object 14"/>
              <p:cNvSpPr txBox="1"/>
              <p:nvPr/>
            </p:nvSpPr>
            <p:spPr>
              <a:xfrm>
                <a:off x="5651640" y="3645000"/>
                <a:ext cx="8650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5"/>
              <p:cNvSpPr txBox="1"/>
              <p:nvPr/>
            </p:nvSpPr>
            <p:spPr>
              <a:xfrm>
                <a:off x="7740720" y="3573360"/>
                <a:ext cx="100332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2087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65530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казать выражение тождественно равное произведени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(х - 4)(1 – 2х)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1)       (4 - х)(1 – 2х)        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 2)       (4 - х)(2х - 1)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3)       (х - 4)(2х - 1)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   4)     – (4 - х)(2х - 1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785440" cy="64548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                    2                  3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Первый  раунд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«Алгебра»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вопросов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 20 секунд на вопрос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66247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1) 20     2) 40     3) 60    4) 10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453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10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невная норма потребления витамина С составляет 60 мг. Один мандарин в среднем содержит 12 мг витамина С. Сколько процентов дневной нормы витамина С получил человек, съевший один мандарин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1) 20%  2) 5%  3) 15%  4)2%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11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1380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7138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1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6626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49780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4978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13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480" y="4071960"/>
            <a:ext cx="8715240" cy="2021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акая  из  этих  функций  лишняя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2920" y="1571760"/>
            <a:ext cx="207180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221472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4357800" y="1571760"/>
            <a:ext cx="2071440" cy="2071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6500880" y="1500120"/>
            <a:ext cx="2500200" cy="2143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285840" y="1857240"/>
                <a:ext cx="17143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2286000" y="1785960"/>
                <a:ext cx="19112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4357800" y="1785960"/>
                <a:ext cx="200016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6357960" y="1714680"/>
                <a:ext cx="257184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1      2        3       4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85480" y="5143680"/>
            <a:ext cx="8715240" cy="1428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акая    парабола   лишняя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14200" y="135720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3214800" y="142884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143080" y="3357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6286680" y="278604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285840" y="135720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2357280" y="3286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6715080" y="278604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9"/>
              <p:cNvSpPr txBox="1"/>
              <p:nvPr/>
            </p:nvSpPr>
            <p:spPr>
              <a:xfrm>
                <a:off x="3429000" y="1500120"/>
                <a:ext cx="26020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85480" y="3857760"/>
            <a:ext cx="8715240" cy="21636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ершина какой параболы находится в точке с координатами (0, 3)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8584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364320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1428840" y="2214720"/>
            <a:ext cx="350028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572080" y="221472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357120" y="28584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1928880" y="2143080"/>
                <a:ext cx="27003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607212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85480" y="3857760"/>
            <a:ext cx="8715240" cy="20923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Осью симметрии какой параболы является прямая х = - 7 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14200" y="428760"/>
            <a:ext cx="2786040" cy="1643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3571920" y="357120"/>
            <a:ext cx="307188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9"/>
          <p:cNvSpPr/>
          <p:nvPr/>
        </p:nvSpPr>
        <p:spPr>
          <a:xfrm>
            <a:off x="1357200" y="2214720"/>
            <a:ext cx="3500640" cy="150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10"/>
          <p:cNvSpPr/>
          <p:nvPr/>
        </p:nvSpPr>
        <p:spPr>
          <a:xfrm>
            <a:off x="5572080" y="2143080"/>
            <a:ext cx="2643120" cy="1500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285840" y="428760"/>
                <a:ext cx="2571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1714680" y="2143080"/>
                <a:ext cx="2700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6143760" y="2143080"/>
                <a:ext cx="176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3857760" y="357120"/>
                <a:ext cx="2601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3300" spc="-1" strike="noStrike">
                <a:solidFill>
                  <a:srgbClr val="ffffff"/>
                </a:solidFill>
                <a:latin typeface="Verdana"/>
              </a:rPr>
              <a:t>Областью определения  какой из  данных функций  не является множество всех действительных чисел?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214200" y="42876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3143160" y="428760"/>
            <a:ext cx="164304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0"/>
          <p:cNvSpPr/>
          <p:nvPr/>
        </p:nvSpPr>
        <p:spPr>
          <a:xfrm>
            <a:off x="6715080" y="2858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428760" y="428760"/>
                <a:ext cx="2476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7072200" y="50004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3143160" y="571680"/>
                <a:ext cx="167004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рафик какой функции не имеет общих точек с осью абсцисс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214200" y="357120"/>
            <a:ext cx="2857680" cy="150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4929120" y="357120"/>
            <a:ext cx="164304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3143160" y="357120"/>
            <a:ext cx="1643040" cy="235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715080" y="500040"/>
            <a:ext cx="2214720" cy="2000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8"/>
              <p:cNvSpPr txBox="1"/>
              <p:nvPr/>
            </p:nvSpPr>
            <p:spPr>
              <a:xfrm>
                <a:off x="285840" y="500040"/>
                <a:ext cx="2476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7000920" y="642960"/>
                <a:ext cx="1606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5000760" y="500040"/>
                <a:ext cx="15094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3255840" y="426960"/>
                <a:ext cx="1444680" cy="21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9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480" y="194760"/>
            <a:ext cx="8643960" cy="639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971640" y="1790640"/>
            <a:ext cx="73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колько стоят 1,5 кг корицы, если 100г корицы стоят 70 рублей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) 105 руб    2)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467 руб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) 1005 руб   4) 1050 руб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0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1"/>
          <p:cNvSpPr/>
          <p:nvPr/>
        </p:nvSpPr>
        <p:spPr>
          <a:xfrm>
            <a:off x="142920" y="189000"/>
            <a:ext cx="8715240" cy="6480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6- летнему  Коле Лобачевскому учитель предложил сложить числа от 1 до 100. Через 1 минуту он назвал верный ответ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ложите  этим же способом цифры на диске телефон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Второй  раунд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«Геометрия»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6 вопросов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 20 секунд на вопрос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1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кой четырехугольник по очень важному признаку является лишни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Verdana"/>
              </a:rPr>
              <a:t>1        2         3           4 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64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85480" y="3857760"/>
            <a:ext cx="8715240" cy="21636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кая из этих фигур обладает наибольшим количеством свойств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72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400960" cy="1203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Verdana"/>
              </a:rPr>
              <a:t>1         2        3           4 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3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85480" y="3857400"/>
            <a:ext cx="8715240" cy="22352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ля какого четырехугольника имеет смысл выражение: «Найдите среднюю линию» (Чему она равна)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81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1         2      3       4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4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85480" y="3857400"/>
            <a:ext cx="8715240" cy="2523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азвание  какой фигуры в переводе с греческого языка означает «обеденный столик»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285840" y="1857240"/>
            <a:ext cx="1857240" cy="1785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араллелограмм 5"/>
          <p:cNvSpPr/>
          <p:nvPr/>
        </p:nvSpPr>
        <p:spPr>
          <a:xfrm>
            <a:off x="2428920" y="1857240"/>
            <a:ext cx="2071800" cy="1785960"/>
          </a:xfrm>
          <a:prstGeom prst="parallelogram">
            <a:avLst>
              <a:gd name="adj" fmla="val 25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Трапеция 6"/>
          <p:cNvSpPr/>
          <p:nvPr/>
        </p:nvSpPr>
        <p:spPr>
          <a:xfrm>
            <a:off x="4357800" y="1857240"/>
            <a:ext cx="2214360" cy="1785960"/>
          </a:xfrm>
          <a:custGeom>
            <a:avLst/>
            <a:gdLst>
              <a:gd name="textAreaLeft" fmla="*/ 297360 w 2214360"/>
              <a:gd name="textAreaRight" fmla="*/ 1917000 w 2214360"/>
              <a:gd name="textAreaTop" fmla="*/ 239760 h 1785960"/>
              <a:gd name="textAreaBottom" fmla="*/ 1786320 h 1785960"/>
            </a:gdLst>
            <a:ahLst/>
            <a:rect l="textAreaLeft" t="textAreaTop" r="textAreaRight" b="textAreaBottom"/>
            <a:pathLst>
              <a:path w="2214562" h="1785938">
                <a:moveTo>
                  <a:pt x="0" y="1785938"/>
                </a:moveTo>
                <a:lnTo>
                  <a:pt x="446485" y="0"/>
                </a:lnTo>
                <a:lnTo>
                  <a:pt x="1768078" y="0"/>
                </a:lnTo>
                <a:lnTo>
                  <a:pt x="2214562" y="1785938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Прямоугольник 7"/>
          <p:cNvGrpSpPr/>
          <p:nvPr/>
        </p:nvGrpSpPr>
        <p:grpSpPr>
          <a:xfrm>
            <a:off x="6724800" y="1822320"/>
            <a:ext cx="2260440" cy="1822680"/>
            <a:chOff x="6724800" y="1822320"/>
            <a:chExt cx="2260440" cy="1822680"/>
          </a:xfrm>
        </p:grpSpPr>
        <p:pic>
          <p:nvPicPr>
            <p:cNvPr id="190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724800" y="1822320"/>
              <a:ext cx="22604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786720" y="1857240"/>
              <a:ext cx="21430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1       2       3       4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5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85480" y="3857760"/>
            <a:ext cx="8715240" cy="27144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кая  из  данных  формул  лишняя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142920" y="500040"/>
            <a:ext cx="2500200" cy="2000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4714920" y="428760"/>
            <a:ext cx="1785960" cy="2428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9"/>
          <p:cNvSpPr/>
          <p:nvPr/>
        </p:nvSpPr>
        <p:spPr>
          <a:xfrm>
            <a:off x="2714760" y="428760"/>
            <a:ext cx="1928520" cy="2357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10"/>
          <p:cNvSpPr/>
          <p:nvPr/>
        </p:nvSpPr>
        <p:spPr>
          <a:xfrm>
            <a:off x="6643800" y="428760"/>
            <a:ext cx="2214360" cy="2428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8"/>
              <p:cNvSpPr txBox="1"/>
              <p:nvPr/>
            </p:nvSpPr>
            <p:spPr>
              <a:xfrm>
                <a:off x="285840" y="571680"/>
                <a:ext cx="22194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6643800" y="500040"/>
                <a:ext cx="22492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4786200" y="571680"/>
                <a:ext cx="17146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786040" y="571680"/>
                <a:ext cx="178596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6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1"/>
          <p:cNvSpPr/>
          <p:nvPr/>
        </p:nvSpPr>
        <p:spPr>
          <a:xfrm>
            <a:off x="285840" y="357120"/>
            <a:ext cx="8501040" cy="62866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ксиома параллельных эт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ве прямые параллельные третьей –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ве прямые перпендикулярные третьей - параллельны между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рез точку, не лежащую на прямой, можно провести на плоскости не более одной прямой , параллельной да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Третий раунд 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«Разные  вопросы»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6 вопросов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 60 секунд на вопрос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7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480" y="194760"/>
            <a:ext cx="8643960" cy="639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900000" y="1700280"/>
            <a:ext cx="7417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бы завтравшний день был вчерашним, то до воскресенья осталось бы столько дней, сколько дней прошло от воскресенья до вчерашнего дня. Какой же сегодня ден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8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194760"/>
            <a:ext cx="8643960" cy="639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351160" y="1844640"/>
                <a:ext cx="494640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ва мальчика играли на гитарах, а один на балалайке. На чем играл Юра, если Миша с Петей и Петя с Юрой играли на разных инструментах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29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428760"/>
            <a:ext cx="8786880" cy="62150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Из слова «арифметика» нужно составить как можно больше слов.      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аждую букву разрешается использовать столько раз, сколько она встречается в этом слове, т.е. буквы «а» и «и» - по два раза, а остальные – по одному. Тот, кто назовет последнее слово, - победит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На выполнение задания дается 3 минуты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30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42560" y="499680"/>
            <a:ext cx="8715240" cy="571500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lvl="2" marL="1143000" indent="-228600" algn="just">
              <a:spcBef>
                <a:spcPts val="10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10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Назовите песни, в которых участвуют числа или математические термины 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Побеждает тот, кто последним назовет песню.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Отвечают команды по очереди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31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6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14200" y="357120"/>
            <a:ext cx="8786880" cy="5857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зовите пословицы и поговорки, в которых участвуют числ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беждает тот, кто последним назовет пословицу или поговорку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Спасибо командам 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Verdana"/>
              </a:rPr>
              <a:t>за  участие  в  игре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480" y="194760"/>
            <a:ext cx="8643960" cy="63961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1154160" y="1685880"/>
                <a:ext cx="6953040" cy="25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357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 вопрос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0 секунд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5:42:50Z</dcterms:created>
  <dc:creator>Быкова</dc:creator>
  <dc:description/>
  <dc:language>en-US</dc:language>
  <cp:lastModifiedBy>Быкова</cp:lastModifiedBy>
  <dcterms:modified xsi:type="dcterms:W3CDTF">2011-01-29T19:23:23Z</dcterms:modified>
  <cp:revision>170</cp:revision>
  <dc:subject/>
  <dc:title>Брейн – ринг  по математике в старших классах</dc:title>
</cp:coreProperties>
</file>