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DAD6-99D7-4B37-8379-40FF90119E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C264-55EE-4885-903B-939106119D5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6B1-226C-409D-A7BB-27D1C9CB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BFC-827B-42E2-998B-B3211B1E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6C1-D76A-4914-A2CD-47E51411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491-B4EE-43B9-AB1B-1C194B25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DF7-D95E-48D2-A18C-2EFD4ADB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1F6-D3C5-412D-9672-F9702F08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B09-7501-4E38-84B5-8D6011B4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29B-4E97-4042-B352-BCCDCA0B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45D-8240-4592-ADAF-A370BDCF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BEB-67FA-4E59-A366-E2789EC6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68C-FF0F-4F43-9A0E-3D00B5D1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2DA-B01A-49BC-8EB6-9D7485E7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11DB-7662-40D3-96F3-AE1C1052F54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188640"/>
            <a:ext cx="8643960" cy="6383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300" spc="-1" strike="noStrike">
                <a:solidFill>
                  <a:srgbClr val="c00000"/>
                </a:solidFill>
                <a:latin typeface="Verdana"/>
              </a:rPr>
              <a:t>Брейн – ринг  </a:t>
            </a:r>
            <a:br>
              <a:rPr sz="8300"/>
            </a:br>
            <a:r>
              <a:rPr b="0" lang="ru-RU" sz="8300" spc="-1" strike="noStrike">
                <a:solidFill>
                  <a:srgbClr val="c00000"/>
                </a:solidFill>
                <a:latin typeface="Verdana"/>
              </a:rPr>
              <a:t>по математике </a:t>
            </a:r>
            <a:br>
              <a:rPr sz="8300"/>
            </a:br>
            <a:r>
              <a:rPr b="0" lang="ru-RU" sz="8300" spc="-1" strike="noStrike">
                <a:solidFill>
                  <a:srgbClr val="c00000"/>
                </a:solidFill>
                <a:latin typeface="Verdana"/>
              </a:rPr>
              <a:t>«К экзамену готовы!»</a:t>
            </a:r>
            <a:br>
              <a:rPr sz="8300"/>
            </a:br>
            <a:r>
              <a:rPr b="0" lang="ru-RU" sz="8300" spc="-1" strike="noStrike">
                <a:solidFill>
                  <a:srgbClr val="c00000"/>
                </a:solidFill>
                <a:latin typeface="Verdana"/>
              </a:rPr>
              <a:t>9 – 11 классы</a:t>
            </a:r>
            <a:endParaRPr b="0" lang="en-US" sz="8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2276640"/>
            <a:ext cx="8358120" cy="4248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Одна из точек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N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K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отмеченных на координатной прямой, соответствует числу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Какая это точка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1 . М    2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   3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. K      4.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1944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Object 9"/>
              <p:cNvSpPr txBox="1"/>
              <p:nvPr/>
            </p:nvSpPr>
            <p:spPr>
              <a:xfrm>
                <a:off x="1116000" y="4437000"/>
                <a:ext cx="934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01040" cy="5897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Известно, что </a:t>
            </a:r>
            <a:r>
              <a:rPr b="0" i="1" lang="en-US" sz="5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число нечетное. Какое из чисел является четным? 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3a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2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+ 2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3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) 2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+ 1     4) 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a - 1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8  2)-8   3)     4)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273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" name="Object 14"/>
              <p:cNvSpPr txBox="1"/>
              <p:nvPr/>
            </p:nvSpPr>
            <p:spPr>
              <a:xfrm>
                <a:off x="5651640" y="3645000"/>
                <a:ext cx="8650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5"/>
              <p:cNvSpPr txBox="1"/>
              <p:nvPr/>
            </p:nvSpPr>
            <p:spPr>
              <a:xfrm>
                <a:off x="7740720" y="3573360"/>
                <a:ext cx="100332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820872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5530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Указать выражение тождественно равное произведению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Verdana"/>
              </a:rPr>
              <a:t>(х - 4)(1 – 2х)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Verdana"/>
              </a:rPr>
              <a:t>1)       (4 - х)(1 – 2х)        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Verdana"/>
              </a:rPr>
              <a:t> 2)       (4 - х)(2х - 1)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Verdana"/>
              </a:rPr>
              <a:t>3)       (х - 4)(2х - 1)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Verdana"/>
              </a:rPr>
              <a:t>   4)     – (4 - х)(2х - 1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14200"/>
            <a:ext cx="8785440" cy="64548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1                    2                  3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9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9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Verdana"/>
              </a:rPr>
              <a:t>Первый  раунд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Verdana"/>
              </a:rPr>
              <a:t>«Алгебра»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 вопросов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о 20 секунд на вопрос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66247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ор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1) 20     2) 40     3) 60    4) 10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453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56908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10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Дневная норма потребления витамина С составляет 60 мг. Один мандарин в среднем содержит 12 мг витамина С. Сколько процентов дневной нормы витамина С получил человек, съевший один мандарин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1) 20%  2) 5%  3) 15%  4)2%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11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13800" cy="424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7138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12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497800" cy="460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849780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13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5480" y="4071960"/>
            <a:ext cx="8715240" cy="2021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акая  из  этих  функций  лишняя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42920" y="1571760"/>
            <a:ext cx="2071800" cy="2071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2214720" y="1571760"/>
            <a:ext cx="2071440" cy="2071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4357800" y="1571760"/>
            <a:ext cx="2071440" cy="2071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6500880" y="1500120"/>
            <a:ext cx="2500200" cy="21430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285840" y="1857240"/>
                <a:ext cx="171432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8"/>
              <p:cNvSpPr txBox="1"/>
              <p:nvPr/>
            </p:nvSpPr>
            <p:spPr>
              <a:xfrm>
                <a:off x="2286000" y="1785960"/>
                <a:ext cx="191124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4357800" y="1785960"/>
                <a:ext cx="200016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6357960" y="1714680"/>
                <a:ext cx="257184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1203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1      2        3       4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85480" y="5143680"/>
            <a:ext cx="8715240" cy="1428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акая    парабола   лишняя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214200" y="135720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3214800" y="142884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2143080" y="3357720"/>
            <a:ext cx="350064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6286680" y="278604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8"/>
              <p:cNvSpPr txBox="1"/>
              <p:nvPr/>
            </p:nvSpPr>
            <p:spPr>
              <a:xfrm>
                <a:off x="285840" y="1357200"/>
                <a:ext cx="2571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2357280" y="3286080"/>
                <a:ext cx="27003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7"/>
              <p:cNvSpPr txBox="1"/>
              <p:nvPr/>
            </p:nvSpPr>
            <p:spPr>
              <a:xfrm>
                <a:off x="6715080" y="2786040"/>
                <a:ext cx="17668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9"/>
              <p:cNvSpPr txBox="1"/>
              <p:nvPr/>
            </p:nvSpPr>
            <p:spPr>
              <a:xfrm>
                <a:off x="3429000" y="1500120"/>
                <a:ext cx="26020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85480" y="3857760"/>
            <a:ext cx="8715240" cy="21636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ершина какой параболы находится в точке с координатами (0, 3)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285840" y="42876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3643200" y="35712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1428840" y="2214720"/>
            <a:ext cx="350028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5572080" y="221472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8"/>
              <p:cNvSpPr txBox="1"/>
              <p:nvPr/>
            </p:nvSpPr>
            <p:spPr>
              <a:xfrm>
                <a:off x="357120" y="285840"/>
                <a:ext cx="2571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1928880" y="2143080"/>
                <a:ext cx="27003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6072120" y="2143080"/>
                <a:ext cx="17668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5"/>
              <p:cNvSpPr txBox="1"/>
              <p:nvPr/>
            </p:nvSpPr>
            <p:spPr>
              <a:xfrm>
                <a:off x="3857760" y="357120"/>
                <a:ext cx="260172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85480" y="3857760"/>
            <a:ext cx="8715240" cy="20923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Осью симметрии какой параболы является прямая х = - 7 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214200" y="42876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8"/>
          <p:cNvSpPr/>
          <p:nvPr/>
        </p:nvSpPr>
        <p:spPr>
          <a:xfrm>
            <a:off x="3571920" y="35712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9"/>
          <p:cNvSpPr/>
          <p:nvPr/>
        </p:nvSpPr>
        <p:spPr>
          <a:xfrm>
            <a:off x="1357200" y="2214720"/>
            <a:ext cx="350064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10"/>
          <p:cNvSpPr/>
          <p:nvPr/>
        </p:nvSpPr>
        <p:spPr>
          <a:xfrm>
            <a:off x="5572080" y="214308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285840" y="428760"/>
                <a:ext cx="2571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3"/>
              <p:cNvSpPr txBox="1"/>
              <p:nvPr/>
            </p:nvSpPr>
            <p:spPr>
              <a:xfrm>
                <a:off x="1714680" y="2143080"/>
                <a:ext cx="27000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6143760" y="2143080"/>
                <a:ext cx="17668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"/>
              <p:cNvSpPr txBox="1"/>
              <p:nvPr/>
            </p:nvSpPr>
            <p:spPr>
              <a:xfrm>
                <a:off x="3857760" y="357120"/>
                <a:ext cx="260172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3300" spc="-1" strike="noStrike">
                <a:solidFill>
                  <a:srgbClr val="ffffff"/>
                </a:solidFill>
                <a:latin typeface="Verdana"/>
              </a:rPr>
              <a:t>Областью определения  какой из  данных функций  не является множество всех действительных чисел?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Verdana"/>
              </a:rPr>
              <a:t>          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214200" y="428760"/>
            <a:ext cx="2857680" cy="1500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4929120" y="357120"/>
            <a:ext cx="1643040" cy="2428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9"/>
          <p:cNvSpPr/>
          <p:nvPr/>
        </p:nvSpPr>
        <p:spPr>
          <a:xfrm>
            <a:off x="3143160" y="428760"/>
            <a:ext cx="1643040" cy="2357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10"/>
          <p:cNvSpPr/>
          <p:nvPr/>
        </p:nvSpPr>
        <p:spPr>
          <a:xfrm>
            <a:off x="6715080" y="285840"/>
            <a:ext cx="2214720" cy="2000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428760" y="428760"/>
                <a:ext cx="24764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7072200" y="500040"/>
                <a:ext cx="16066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5000760" y="500040"/>
                <a:ext cx="15094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3143160" y="571680"/>
                <a:ext cx="167004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График какой функции не имеет общих точек с осью абсцисс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214200" y="357120"/>
            <a:ext cx="2857680" cy="1500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4929120" y="357120"/>
            <a:ext cx="1643040" cy="2428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3143160" y="357120"/>
            <a:ext cx="1643040" cy="235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715080" y="500040"/>
            <a:ext cx="2214720" cy="2000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8"/>
              <p:cNvSpPr txBox="1"/>
              <p:nvPr/>
            </p:nvSpPr>
            <p:spPr>
              <a:xfrm>
                <a:off x="285840" y="500040"/>
                <a:ext cx="24764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7000920" y="642960"/>
                <a:ext cx="16066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5000760" y="500040"/>
                <a:ext cx="15094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3255840" y="426960"/>
                <a:ext cx="1444680" cy="21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9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480" y="194760"/>
            <a:ext cx="8643960" cy="63961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971640" y="1790640"/>
            <a:ext cx="73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Сколько стоят 1,5 кг корицы, если 100г корицы стоят 70 рублей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) 105 руб    2)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467 руб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) 1005 руб   4) 1050 руб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0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Заголовок 1"/>
          <p:cNvSpPr/>
          <p:nvPr/>
        </p:nvSpPr>
        <p:spPr>
          <a:xfrm>
            <a:off x="142920" y="189000"/>
            <a:ext cx="8715240" cy="6480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6- летнему  Коле Лобачевскому учитель предложил сложить числа от 1 до 100. Через 1 минуту он назвал верный ответ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ложите  этим же способом цифры на диске телефон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Verdana"/>
              </a:rPr>
              <a:t>Второй  раунд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Verdana"/>
              </a:rPr>
              <a:t>«Геометрия»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6 вопросов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о 20 секунд на вопрос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кой четырехугольник по очень важному признаку является лишним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1143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Verdana"/>
              </a:rPr>
              <a:t>1        2         3           4 </a:t>
            </a:r>
            <a:endParaRPr b="0" lang="en-US" sz="4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64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85480" y="3857760"/>
            <a:ext cx="8715240" cy="21636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кая из этих фигур обладает наибольшим количеством свойств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72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400960" cy="1203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Verdana"/>
              </a:rPr>
              <a:t>1         2        3           4 </a:t>
            </a:r>
            <a:endParaRPr b="0" lang="en-US" sz="4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85480" y="3857400"/>
            <a:ext cx="8715240" cy="22352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ля какого четырехугольника имеет смысл выражение: «Найдите среднюю линию» (Чему она равна)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81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1         2      3       4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85480" y="3857400"/>
            <a:ext cx="8715240" cy="2523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азвание  какой фигуры в переводе с греческого языка означает «обеденный столик»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90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1       2       3       4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5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кая  из  данных  формул  лишняя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142920" y="500040"/>
            <a:ext cx="2500200" cy="2000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8"/>
          <p:cNvSpPr/>
          <p:nvPr/>
        </p:nvSpPr>
        <p:spPr>
          <a:xfrm>
            <a:off x="4714920" y="428760"/>
            <a:ext cx="1785960" cy="2428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9"/>
          <p:cNvSpPr/>
          <p:nvPr/>
        </p:nvSpPr>
        <p:spPr>
          <a:xfrm>
            <a:off x="2714760" y="428760"/>
            <a:ext cx="1928520" cy="2357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10"/>
          <p:cNvSpPr/>
          <p:nvPr/>
        </p:nvSpPr>
        <p:spPr>
          <a:xfrm>
            <a:off x="6643800" y="428760"/>
            <a:ext cx="2214360" cy="2428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8"/>
              <p:cNvSpPr txBox="1"/>
              <p:nvPr/>
            </p:nvSpPr>
            <p:spPr>
              <a:xfrm>
                <a:off x="285840" y="571680"/>
                <a:ext cx="22194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6643800" y="500040"/>
                <a:ext cx="22492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4786200" y="571680"/>
                <a:ext cx="17146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786040" y="571680"/>
                <a:ext cx="178596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6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Заголовок 1"/>
          <p:cNvSpPr/>
          <p:nvPr/>
        </p:nvSpPr>
        <p:spPr>
          <a:xfrm>
            <a:off x="285840" y="357120"/>
            <a:ext cx="8501040" cy="62866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ксиома параллельных эт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ве прямые параллельные третьей – параллельны между соб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ве прямые перпендикулярные третьей - параллельны между соб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рез точку, не лежащую на прямой, можно провести на плоскости не более одной прямой , параллельной дан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Verdana"/>
              </a:rPr>
              <a:t>Третий раунд 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Verdana"/>
              </a:rPr>
              <a:t>«Разные  вопросы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 6 вопросов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о 60 секунд на вопрос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7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6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5480" y="194760"/>
            <a:ext cx="8643960" cy="63961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900000" y="1700280"/>
            <a:ext cx="7417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бы завтравшний день был вчерашним, то до воскресенья осталось бы столько дней, сколько дней прошло от воскресенья до вчерашнего дня. Какой же сегодня ден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8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6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480" y="194760"/>
            <a:ext cx="8643960" cy="63961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2351160" y="1844640"/>
                <a:ext cx="4946400" cy="24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Два мальчика играли на гитарах, а один на балалайке. На чем играл Юра, если Миша с Петей и Петя с Юрой играли на разных инструментах.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9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6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428760"/>
            <a:ext cx="8786880" cy="6215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Из слова «арифметика» нужно составить как можно больше слов.      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Каждую букву разрешается использовать столько раз, сколько она встречается в этом слове, т.е. буквы «а» и «и» - по два раза, а остальные – по одному. Тот, кто назовет последнее слово, - победит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На выполнение задания дается 3 минуты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30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6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42560" y="499680"/>
            <a:ext cx="8715240" cy="5715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lvl="2" marL="1143000" indent="-228600" algn="just">
              <a:spcBef>
                <a:spcPts val="10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10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Назовите песни, в которых участвуют числа или математические термины .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10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Побеждает тот, кто последним назовет песню.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10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Отвечают команды по очереди.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31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6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14200" y="357120"/>
            <a:ext cx="8786880" cy="5857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азовите пословицы и поговорки, в которых участвуют числ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обеждает тот, кто последним назовет пословицу или поговорку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Verdana"/>
              </a:rPr>
              <a:t>Спасибо командам 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Verdana"/>
              </a:rPr>
              <a:t>за  участие  в  игре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480" y="194760"/>
            <a:ext cx="8643960" cy="63961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1154160" y="1685880"/>
                <a:ext cx="6953040" cy="258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5:42:50Z</dcterms:created>
  <dc:creator>Быкова</dc:creator>
  <dc:description/>
  <dc:language>en-US</dc:language>
  <cp:lastModifiedBy>Быкова</cp:lastModifiedBy>
  <dcterms:modified xsi:type="dcterms:W3CDTF">2011-01-29T19:23:23Z</dcterms:modified>
  <cp:revision>170</cp:revision>
  <dc:subject/>
  <dc:title>Брейн – ринг  по математике в старших классах</dc:title>
</cp:coreProperties>
</file>